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DEED-FD66-4968-B23B-8C6703EC5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4C9-0974-4B08-B056-F729D51FED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4C54-87F8-4917-B1DF-A8A5FEDB8A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1EA-CE3E-46B0-B15F-3D25936F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BC9-FDEB-4D23-B41E-94A8D226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CF2-848F-4718-8CDD-25B0B22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F39-20BE-46AF-85C0-6229C510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434-514A-4E98-9626-706B4D6B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714-9982-41C0-8C26-AAC50788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267-CDB5-404F-B2DE-183F539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A30-2F2C-46C7-A4F9-4FD1752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E08-55C9-42E3-BEBF-738221E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95F-F316-4C22-B76F-21D88B0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370-F777-4E71-8624-9CFC1C0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EC6-D5FC-4C75-A942-B435C6A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380-9FBD-4E61-84B1-D26EE11ED5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1847" t="31250" r="42900" b="37500"/>
          <a:stretch/>
        </p:blipFill>
        <p:spPr>
          <a:xfrm>
            <a:off x="0" y="1428840"/>
            <a:ext cx="6777000" cy="471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600640" y="1143000"/>
            <a:ext cx="618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соответственны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072200" y="3714840"/>
            <a:ext cx="135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663080" y="578628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= 75⁰ Найти все уг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000760" y="2857680"/>
            <a:ext cx="350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rcRect l="52161" t="50782" r="23134" b="20901"/>
          <a:stretch/>
        </p:blipFill>
        <p:spPr>
          <a:xfrm>
            <a:off x="4599000" y="3500280"/>
            <a:ext cx="45450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52161" t="50782" r="23134" b="19921"/>
          <a:stretch/>
        </p:blipFill>
        <p:spPr>
          <a:xfrm>
            <a:off x="4643280" y="3500280"/>
            <a:ext cx="450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51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Доказательство теоремы о сумме углов треугольника «Сумма внутренних углов треугольника равна двум прямым» приписывают Пифагору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5480" y="5643720"/>
            <a:ext cx="3429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80 – 500 г.г. до н. э</a:t>
            </a:r>
            <a:r>
              <a:rPr b="1" i="1" lang="ru-RU" sz="31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ПИФАГОР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410364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rcRect l="0" t="5861" r="4491" b="5518"/>
          <a:stretch/>
        </p:blipFill>
        <p:spPr>
          <a:xfrm>
            <a:off x="0" y="0"/>
            <a:ext cx="88534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4101" t="3661" r="4491" b="4053"/>
          <a:stretch/>
        </p:blipFill>
        <p:spPr>
          <a:xfrm>
            <a:off x="357120" y="0"/>
            <a:ext cx="84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rcRect l="6588" t="4396" r="2150" b="4053"/>
          <a:stretch/>
        </p:blipFill>
        <p:spPr>
          <a:xfrm>
            <a:off x="285840" y="50760"/>
            <a:ext cx="848196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1"/>
          <a:srcRect l="0" t="3661" r="1562" b="4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00364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322360" y="2031840"/>
            <a:ext cx="3168720" cy="295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29318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29120" y="22860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2357280" y="2000160"/>
            <a:ext cx="3133800" cy="298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0" y="5286240"/>
            <a:ext cx="9144000" cy="155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Times New Roman"/>
              </a:rPr>
              <a:t>Следствие 2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: Острый угол в равнобедренном прямоугольн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угольнике равен 45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943920" y="200016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⁰ : 2 = 45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643120" y="450072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.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углы равностороннего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4680" y="3821760"/>
            <a:ext cx="2919600" cy="164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3143160" y="3786120"/>
            <a:ext cx="26352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4786200" y="6143760"/>
            <a:ext cx="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9"/>
          <p:cNvSpPr/>
          <p:nvPr/>
        </p:nvSpPr>
        <p:spPr>
          <a:xfrm flipH="1">
            <a:off x="6143400" y="3786120"/>
            <a:ext cx="28548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360160" y="5500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860880" y="557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34381" t="31826" r="50418" b="55157"/>
          <a:stretch/>
        </p:blipFill>
        <p:spPr>
          <a:xfrm>
            <a:off x="500040" y="1143000"/>
            <a:ext cx="385776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56073" t="31535" r="27976" b="51339"/>
          <a:stretch/>
        </p:blipFill>
        <p:spPr>
          <a:xfrm>
            <a:off x="4500720" y="1000080"/>
            <a:ext cx="3786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31847" t="52037" r="47842" b="30359"/>
          <a:stretch/>
        </p:blipFill>
        <p:spPr>
          <a:xfrm>
            <a:off x="285840" y="3857760"/>
            <a:ext cx="454500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rcRect l="56225" t="51393" r="25267" b="27520"/>
          <a:stretch/>
        </p:blipFill>
        <p:spPr>
          <a:xfrm>
            <a:off x="4500720" y="3643200"/>
            <a:ext cx="4286160" cy="2746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7786800" y="185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158880" y="2928960"/>
            <a:ext cx="25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1;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010200" y="61437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углы А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790400" y="4572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TextBox 15"/>
          <p:cNvSpPr/>
          <p:nvPr/>
        </p:nvSpPr>
        <p:spPr>
          <a:xfrm>
            <a:off x="8220600" y="45720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│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1"/>
          <a:srcRect l="0" t="4396" r="0" b="4053"/>
          <a:stretch/>
        </p:blipFill>
        <p:spPr>
          <a:xfrm>
            <a:off x="0" y="0"/>
            <a:ext cx="897264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50920" y="2174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116000" y="5229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56400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619280" y="5516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23"/>
          <p:cNvSpPr/>
          <p:nvPr/>
        </p:nvSpPr>
        <p:spPr>
          <a:xfrm flipH="1" rot="13552800">
            <a:off x="3652200" y="459360"/>
            <a:ext cx="385920" cy="276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24"/>
          <p:cNvSpPr/>
          <p:nvPr/>
        </p:nvSpPr>
        <p:spPr>
          <a:xfrm rot="13428600">
            <a:off x="2268000" y="3499560"/>
            <a:ext cx="6051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1619280" y="371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7"/>
          <p:cNvSpPr/>
          <p:nvPr/>
        </p:nvSpPr>
        <p:spPr>
          <a:xfrm flipH="1">
            <a:off x="5580000" y="2708280"/>
            <a:ext cx="287280" cy="5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4077720" y="5643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lt;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47760" y="43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50920" y="2174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1692360" y="148428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627280" y="4437000"/>
            <a:ext cx="453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343240" y="787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003640" y="450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1332000" y="5229360"/>
            <a:ext cx="62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14240" y="557208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72360" y="1413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4727880" y="30942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663160" y="37418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 flipV="1">
            <a:off x="5292720" y="162828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365440" y="17254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48436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1908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4356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73272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3"/>
          <p:cNvSpPr/>
          <p:nvPr/>
        </p:nvSpPr>
        <p:spPr>
          <a:xfrm flipV="1" rot="11283000">
            <a:off x="4857120" y="3926520"/>
            <a:ext cx="601560" cy="7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rc 24"/>
          <p:cNvSpPr/>
          <p:nvPr/>
        </p:nvSpPr>
        <p:spPr>
          <a:xfrm>
            <a:off x="5435640" y="4076640"/>
            <a:ext cx="28872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rc 27"/>
          <p:cNvSpPr/>
          <p:nvPr/>
        </p:nvSpPr>
        <p:spPr>
          <a:xfrm flipH="1">
            <a:off x="4643280" y="3933720"/>
            <a:ext cx="21600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rc 28"/>
          <p:cNvSpPr/>
          <p:nvPr/>
        </p:nvSpPr>
        <p:spPr>
          <a:xfrm flipV="1">
            <a:off x="2411280" y="1915560"/>
            <a:ext cx="64800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29"/>
          <p:cNvSpPr/>
          <p:nvPr/>
        </p:nvSpPr>
        <p:spPr>
          <a:xfrm>
            <a:off x="1835280" y="4005360"/>
            <a:ext cx="144360" cy="43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3335760" y="5572080"/>
            <a:ext cx="50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глы треугольника АВ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ва тупых или прямых угла или тупой и прям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5840" y="2071800"/>
          <a:ext cx="8686800" cy="4267080"/>
        </p:xfrm>
        <a:graphic>
          <a:graphicData uri="http://schemas.openxmlformats.org/drawingml/2006/table">
            <a:tbl>
              <a:tblPr/>
              <a:tblGrid>
                <a:gridCol w="2643120"/>
                <a:gridCol w="3071880"/>
                <a:gridCol w="2971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параллель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ая соединительная линия 5"/>
          <p:cNvSpPr/>
          <p:nvPr/>
        </p:nvSpPr>
        <p:spPr>
          <a:xfrm>
            <a:off x="785880" y="4143240"/>
            <a:ext cx="121428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6"/>
          <p:cNvSpPr/>
          <p:nvPr/>
        </p:nvSpPr>
        <p:spPr>
          <a:xfrm>
            <a:off x="570960" y="2928960"/>
            <a:ext cx="214200" cy="121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7"/>
          <p:cNvSpPr/>
          <p:nvPr/>
        </p:nvSpPr>
        <p:spPr>
          <a:xfrm flipH="1">
            <a:off x="2000160" y="2786040"/>
            <a:ext cx="571680" cy="13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3571920" y="4000680"/>
            <a:ext cx="128592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13"/>
          <p:cNvSpPr/>
          <p:nvPr/>
        </p:nvSpPr>
        <p:spPr>
          <a:xfrm flipH="1">
            <a:off x="4857840" y="2428920"/>
            <a:ext cx="1440" cy="157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15"/>
          <p:cNvSpPr/>
          <p:nvPr/>
        </p:nvSpPr>
        <p:spPr>
          <a:xfrm flipH="1">
            <a:off x="3571920" y="2857680"/>
            <a:ext cx="1440" cy="114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>
            <a:off x="6714360" y="2786040"/>
            <a:ext cx="42876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17"/>
          <p:cNvSpPr/>
          <p:nvPr/>
        </p:nvSpPr>
        <p:spPr>
          <a:xfrm>
            <a:off x="7143840" y="3857760"/>
            <a:ext cx="10000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 flipV="1">
            <a:off x="8143920" y="2785680"/>
            <a:ext cx="144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14200" y="1357200"/>
          <a:ext cx="8686800" cy="53946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углы остр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туп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ый треугольник 5"/>
          <p:cNvSpPr/>
          <p:nvPr/>
        </p:nvSpPr>
        <p:spPr>
          <a:xfrm>
            <a:off x="3714840" y="5429160"/>
            <a:ext cx="1928880" cy="9288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50"/>
          <p:cNvSpPr/>
          <p:nvPr/>
        </p:nvSpPr>
        <p:spPr>
          <a:xfrm>
            <a:off x="4000680" y="1785960"/>
            <a:ext cx="1447560" cy="838080"/>
          </a:xfrm>
          <a:prstGeom prst="triangle">
            <a:avLst>
              <a:gd name="adj" fmla="val 27046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50"/>
          <p:cNvSpPr/>
          <p:nvPr/>
        </p:nvSpPr>
        <p:spPr>
          <a:xfrm rot="12147000">
            <a:off x="3294000" y="3864960"/>
            <a:ext cx="2408400" cy="608040"/>
          </a:xfrm>
          <a:prstGeom prst="triangle">
            <a:avLst>
              <a:gd name="adj" fmla="val 74778"/>
            </a:avLst>
          </a:prstGeom>
          <a:solidFill>
            <a:srgbClr val="00b050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4"/>
          <p:cNvSpPr/>
          <p:nvPr/>
        </p:nvSpPr>
        <p:spPr>
          <a:xfrm>
            <a:off x="1290240" y="571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3646440" y="564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2858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956680" y="1643040"/>
            <a:ext cx="597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   &lt;А : &lt;В : &lt;С = 2 : 3 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&lt;А; &lt;В ;&lt;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723120" y="285840"/>
            <a:ext cx="15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50"/>
          <p:cNvSpPr/>
          <p:nvPr/>
        </p:nvSpPr>
        <p:spPr>
          <a:xfrm rot="14710800">
            <a:off x="-1158480" y="2644560"/>
            <a:ext cx="4975200" cy="2800080"/>
          </a:xfrm>
          <a:prstGeom prst="triangle">
            <a:avLst>
              <a:gd name="adj" fmla="val 25884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rcRect l="0" t="3661" r="0" b="332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шифруйте ребус, в котором зашифрована тема нашего уро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http://im6-tub.yandex.net/i?id=75008094&amp;tov=6"/>
          <p:cNvPicPr/>
          <p:nvPr/>
        </p:nvPicPr>
        <p:blipFill>
          <a:blip r:embed="rId1"/>
          <a:stretch/>
        </p:blipFill>
        <p:spPr>
          <a:xfrm>
            <a:off x="-6480" y="32796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pixelbrush.ru/uploads/posts/2013-05/1369197176_02.jpg"/>
          <p:cNvPicPr/>
          <p:nvPr/>
        </p:nvPicPr>
        <p:blipFill>
          <a:blip r:embed="rId2"/>
          <a:stretch/>
        </p:blipFill>
        <p:spPr>
          <a:xfrm>
            <a:off x="2643120" y="314316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2147400" y="4500720"/>
            <a:ext cx="6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6" descr="ребус 3"/>
          <p:cNvPicPr/>
          <p:nvPr/>
        </p:nvPicPr>
        <p:blipFill>
          <a:blip r:embed="rId3"/>
          <a:stretch/>
        </p:blipFill>
        <p:spPr>
          <a:xfrm>
            <a:off x="4280040" y="3279600"/>
            <a:ext cx="1657080" cy="1938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 flipH="1">
            <a:off x="4572000" y="4500720"/>
            <a:ext cx="3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00040" y="264312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=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0_6615_6fef11ca_L"/>
          <p:cNvPicPr/>
          <p:nvPr/>
        </p:nvPicPr>
        <p:blipFill>
          <a:blip r:embed="rId4"/>
          <a:srcRect l="0" t="0" r="0" b="25330"/>
          <a:stretch/>
        </p:blipFill>
        <p:spPr>
          <a:xfrm>
            <a:off x="5429160" y="3000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8463600" y="43578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D:\флэш карта\1 rkfcc\03a5b123776c.jpg"/>
          <p:cNvPicPr/>
          <p:nvPr/>
        </p:nvPicPr>
        <p:blipFill>
          <a:blip r:embed="rId1"/>
          <a:stretch/>
        </p:blipFill>
        <p:spPr>
          <a:xfrm>
            <a:off x="857160" y="1357200"/>
            <a:ext cx="1793880" cy="25718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071880" y="1857240"/>
            <a:ext cx="528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0 (до внешнего уг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меть доказывать теор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1 Выделить факт,           о котором не говорили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3(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7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428760" y="241200"/>
            <a:ext cx="8358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озил камни? (поднимите сини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ыполнял свою работу? (поднимите желт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строил храм? (поднимите красн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Заголовок 1"/>
          <p:cNvSpPr/>
          <p:nvPr/>
        </p:nvSpPr>
        <p:spPr>
          <a:xfrm>
            <a:off x="0" y="292896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4582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4357800" y="5715000"/>
            <a:ext cx="43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14280" y="4179960"/>
            <a:ext cx="650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Легче остановить Солнце. Легче сдвинуть Землю, чем уменьшить сумму углов треугольн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4a452a"/>
                </a:solidFill>
                <a:latin typeface="Times New Roman"/>
              </a:rPr>
              <a:t>В.Ф. Ко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375240" cy="4643640"/>
        </p:xfrm>
        <a:graphic>
          <a:graphicData uri="http://schemas.openxmlformats.org/drawingml/2006/table">
            <a:tbl>
              <a:tblPr/>
              <a:tblGrid>
                <a:gridCol w="2125440"/>
                <a:gridCol w="2125800"/>
                <a:gridCol w="212400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елё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с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 + &lt;2 + 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3"/>
          <p:cNvSpPr/>
          <p:nvPr/>
        </p:nvSpPr>
        <p:spPr>
          <a:xfrm>
            <a:off x="1213920" y="60721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ипотеза «Сумма углов  треугольника …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помощью  «отрывания»углов   треугольника можно показать, что сумма углов 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00" y="1999800"/>
            <a:ext cx="8072280" cy="366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639720" y="3523680"/>
            <a:ext cx="2928960" cy="2345760"/>
            <a:chOff x="639720" y="3523680"/>
            <a:chExt cx="2928960" cy="2345760"/>
          </a:xfrm>
        </p:grpSpPr>
        <p:grpSp>
          <p:nvGrpSpPr>
            <p:cNvPr id="85" name="Group 14"/>
            <p:cNvGrpSpPr/>
            <p:nvPr/>
          </p:nvGrpSpPr>
          <p:grpSpPr>
            <a:xfrm>
              <a:off x="639720" y="3679560"/>
              <a:ext cx="2928960" cy="2116080"/>
              <a:chOff x="639720" y="3679560"/>
              <a:chExt cx="2928960" cy="2116080"/>
            </a:xfrm>
          </p:grpSpPr>
          <p:grpSp>
            <p:nvGrpSpPr>
              <p:cNvPr id="86" name="Group 15"/>
              <p:cNvGrpSpPr/>
              <p:nvPr/>
            </p:nvGrpSpPr>
            <p:grpSpPr>
              <a:xfrm>
                <a:off x="639720" y="3679560"/>
                <a:ext cx="2928960" cy="2116080"/>
                <a:chOff x="639720" y="3679560"/>
                <a:chExt cx="2928960" cy="2116080"/>
              </a:xfrm>
            </p:grpSpPr>
            <p:grpSp>
              <p:nvGrpSpPr>
                <p:cNvPr id="87" name="Group 16"/>
                <p:cNvGrpSpPr/>
                <p:nvPr/>
              </p:nvGrpSpPr>
              <p:grpSpPr>
                <a:xfrm>
                  <a:off x="639720" y="4350960"/>
                  <a:ext cx="1698840" cy="1276920"/>
                  <a:chOff x="639720" y="4350960"/>
                  <a:chExt cx="1698840" cy="1276920"/>
                </a:xfrm>
              </p:grpSpPr>
              <p:sp>
                <p:nvSpPr>
                  <p:cNvPr id="88" name="Line 17"/>
                  <p:cNvSpPr/>
                  <p:nvPr/>
                </p:nvSpPr>
                <p:spPr>
                  <a:xfrm flipH="1" flipV="1">
                    <a:off x="639720" y="5380560"/>
                    <a:ext cx="1465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Line 18"/>
                  <p:cNvSpPr/>
                  <p:nvPr/>
                </p:nvSpPr>
                <p:spPr>
                  <a:xfrm flipV="1">
                    <a:off x="639720" y="4529880"/>
                    <a:ext cx="676800" cy="85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9"/>
                  <p:cNvSpPr/>
                  <p:nvPr/>
                </p:nvSpPr>
                <p:spPr>
                  <a:xfrm rot="15297000">
                    <a:off x="1400400" y="4458600"/>
                    <a:ext cx="763920" cy="7045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20"/>
                  <p:cNvSpPr/>
                  <p:nvPr/>
                </p:nvSpPr>
                <p:spPr>
                  <a:xfrm rot="15297000">
                    <a:off x="1862640" y="5159880"/>
                    <a:ext cx="451800" cy="3963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21"/>
                <p:cNvGrpSpPr/>
                <p:nvPr/>
              </p:nvGrpSpPr>
              <p:grpSpPr>
                <a:xfrm>
                  <a:off x="1316880" y="3679560"/>
                  <a:ext cx="1412280" cy="1591560"/>
                  <a:chOff x="1316880" y="3679560"/>
                  <a:chExt cx="1412280" cy="1591560"/>
                </a:xfrm>
              </p:grpSpPr>
              <p:sp>
                <p:nvSpPr>
                  <p:cNvPr id="93" name="Line 22"/>
                  <p:cNvSpPr/>
                  <p:nvPr/>
                </p:nvSpPr>
                <p:spPr>
                  <a:xfrm flipV="1">
                    <a:off x="1316880" y="3679560"/>
                    <a:ext cx="677160" cy="849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Line 23"/>
                  <p:cNvSpPr/>
                  <p:nvPr/>
                </p:nvSpPr>
                <p:spPr>
                  <a:xfrm flipH="1" flipV="1">
                    <a:off x="1993680" y="3679560"/>
                    <a:ext cx="642960" cy="89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24"/>
                  <p:cNvSpPr/>
                  <p:nvPr/>
                </p:nvSpPr>
                <p:spPr>
                  <a:xfrm rot="15297000">
                    <a:off x="1400040" y="4458600"/>
                    <a:ext cx="763560" cy="7041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5"/>
                  <p:cNvSpPr/>
                  <p:nvPr/>
                </p:nvSpPr>
                <p:spPr>
                  <a:xfrm rot="15297000">
                    <a:off x="2243160" y="4574160"/>
                    <a:ext cx="36576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Group 26"/>
                <p:cNvGrpSpPr/>
                <p:nvPr/>
              </p:nvGrpSpPr>
              <p:grpSpPr>
                <a:xfrm>
                  <a:off x="1838520" y="4575600"/>
                  <a:ext cx="1730160" cy="1220040"/>
                  <a:chOff x="1838520" y="4575600"/>
                  <a:chExt cx="1730160" cy="1220040"/>
                </a:xfrm>
              </p:grpSpPr>
              <p:sp>
                <p:nvSpPr>
                  <p:cNvPr id="98" name="Line 27"/>
                  <p:cNvSpPr/>
                  <p:nvPr/>
                </p:nvSpPr>
                <p:spPr>
                  <a:xfrm flipH="1" flipV="1">
                    <a:off x="2104200" y="5587920"/>
                    <a:ext cx="146448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Line 28"/>
                  <p:cNvSpPr/>
                  <p:nvPr/>
                </p:nvSpPr>
                <p:spPr>
                  <a:xfrm flipH="1" flipV="1">
                    <a:off x="2636640" y="4575600"/>
                    <a:ext cx="931680" cy="1220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9"/>
                  <p:cNvSpPr/>
                  <p:nvPr/>
                </p:nvSpPr>
                <p:spPr>
                  <a:xfrm rot="15297000">
                    <a:off x="1862640" y="5159520"/>
                    <a:ext cx="451800" cy="3967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30"/>
                  <p:cNvSpPr/>
                  <p:nvPr/>
                </p:nvSpPr>
                <p:spPr>
                  <a:xfrm rot="15297000">
                    <a:off x="2242800" y="4574160"/>
                    <a:ext cx="36540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" name="Text Box 31"/>
              <p:cNvSpPr/>
              <p:nvPr/>
            </p:nvSpPr>
            <p:spPr>
              <a:xfrm rot="15297000">
                <a:off x="2018520" y="5023440"/>
                <a:ext cx="520560" cy="5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32"/>
            <p:cNvSpPr/>
            <p:nvPr/>
          </p:nvSpPr>
          <p:spPr>
            <a:xfrm rot="15297000">
              <a:off x="2660760" y="5229000"/>
              <a:ext cx="673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3"/>
            <p:cNvSpPr/>
            <p:nvPr/>
          </p:nvSpPr>
          <p:spPr>
            <a:xfrm rot="15297000">
              <a:off x="681840" y="5013720"/>
              <a:ext cx="675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 rot="15297000">
              <a:off x="1140120" y="3808440"/>
              <a:ext cx="67392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3714480" y="4149720"/>
            <a:ext cx="1112760" cy="1041480"/>
            <a:chOff x="3714480" y="4149720"/>
            <a:chExt cx="1112760" cy="1041480"/>
          </a:xfrm>
        </p:grpSpPr>
        <p:sp>
          <p:nvSpPr>
            <p:cNvPr id="107" name="Line 36"/>
            <p:cNvSpPr/>
            <p:nvPr/>
          </p:nvSpPr>
          <p:spPr>
            <a:xfrm flipV="1">
              <a:off x="3714480" y="4263480"/>
              <a:ext cx="592200" cy="9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3714840" y="4950360"/>
              <a:ext cx="1044360" cy="24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 rot="673800">
              <a:off x="4296600" y="4177080"/>
              <a:ext cx="311040" cy="29880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 rot="673800">
              <a:off x="4538880" y="4523040"/>
              <a:ext cx="251640" cy="39816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4500360" y="3588480"/>
            <a:ext cx="1091520" cy="793800"/>
            <a:chOff x="4500360" y="3588480"/>
            <a:chExt cx="1091520" cy="793800"/>
          </a:xfrm>
        </p:grpSpPr>
        <p:sp>
          <p:nvSpPr>
            <p:cNvPr id="112" name="Line 41"/>
            <p:cNvSpPr/>
            <p:nvPr/>
          </p:nvSpPr>
          <p:spPr>
            <a:xfrm flipV="1">
              <a:off x="4519080" y="3588480"/>
              <a:ext cx="59580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5114880" y="3588480"/>
              <a:ext cx="47700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 rot="604800">
              <a:off x="4903920" y="4015440"/>
              <a:ext cx="654480" cy="311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 rot="604800">
              <a:off x="4512600" y="4059360"/>
              <a:ext cx="387360" cy="175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5"/>
          <p:cNvGrpSpPr/>
          <p:nvPr/>
        </p:nvGrpSpPr>
        <p:grpSpPr>
          <a:xfrm>
            <a:off x="4933800" y="4087080"/>
            <a:ext cx="1240920" cy="795960"/>
            <a:chOff x="4933800" y="4087080"/>
            <a:chExt cx="1240920" cy="795960"/>
          </a:xfrm>
        </p:grpSpPr>
        <p:sp>
          <p:nvSpPr>
            <p:cNvPr id="117" name="Line 46"/>
            <p:cNvSpPr/>
            <p:nvPr/>
          </p:nvSpPr>
          <p:spPr>
            <a:xfrm>
              <a:off x="5691960" y="4158720"/>
              <a:ext cx="482760" cy="60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 flipV="1">
              <a:off x="5260320" y="4762080"/>
              <a:ext cx="914040" cy="1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 rot="445800">
              <a:off x="4996080" y="4127760"/>
              <a:ext cx="658800" cy="432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 rot="445800">
              <a:off x="4953240" y="4533480"/>
              <a:ext cx="315720" cy="3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50"/>
          <p:cNvGrpSpPr/>
          <p:nvPr/>
        </p:nvGrpSpPr>
        <p:grpSpPr>
          <a:xfrm>
            <a:off x="6152760" y="3868200"/>
            <a:ext cx="3074040" cy="2066760"/>
            <a:chOff x="6152760" y="3868200"/>
            <a:chExt cx="3074040" cy="2066760"/>
          </a:xfrm>
        </p:grpSpPr>
        <p:grpSp>
          <p:nvGrpSpPr>
            <p:cNvPr id="122" name="Group 51"/>
            <p:cNvGrpSpPr/>
            <p:nvPr/>
          </p:nvGrpSpPr>
          <p:grpSpPr>
            <a:xfrm>
              <a:off x="7799760" y="4384800"/>
              <a:ext cx="1427040" cy="1550160"/>
              <a:chOff x="7799760" y="4384800"/>
              <a:chExt cx="1427040" cy="1550160"/>
            </a:xfrm>
          </p:grpSpPr>
          <p:sp>
            <p:nvSpPr>
              <p:cNvPr id="123" name="Line 52"/>
              <p:cNvSpPr/>
              <p:nvPr/>
            </p:nvSpPr>
            <p:spPr>
              <a:xfrm flipH="1" flipV="1">
                <a:off x="7826400" y="5774040"/>
                <a:ext cx="126072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53"/>
              <p:cNvSpPr/>
              <p:nvPr/>
            </p:nvSpPr>
            <p:spPr>
              <a:xfrm flipH="1" flipV="1">
                <a:off x="7799760" y="4674960"/>
                <a:ext cx="27000" cy="10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54"/>
              <p:cNvSpPr/>
              <p:nvPr/>
            </p:nvSpPr>
            <p:spPr>
              <a:xfrm rot="14052600">
                <a:off x="7802640" y="47160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55"/>
              <p:cNvSpPr/>
              <p:nvPr/>
            </p:nvSpPr>
            <p:spPr>
              <a:xfrm rot="14052600">
                <a:off x="8609400" y="5454000"/>
                <a:ext cx="63504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56"/>
            <p:cNvSpPr/>
            <p:nvPr/>
          </p:nvSpPr>
          <p:spPr>
            <a:xfrm rot="21511800">
              <a:off x="7945920" y="5142240"/>
              <a:ext cx="44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7"/>
            <p:cNvGrpSpPr/>
            <p:nvPr/>
          </p:nvGrpSpPr>
          <p:grpSpPr>
            <a:xfrm>
              <a:off x="6563520" y="3868200"/>
              <a:ext cx="1395000" cy="1972080"/>
              <a:chOff x="6563520" y="3868200"/>
              <a:chExt cx="1395000" cy="1972080"/>
            </a:xfrm>
          </p:grpSpPr>
          <p:sp>
            <p:nvSpPr>
              <p:cNvPr id="129" name="Line 58"/>
              <p:cNvSpPr/>
              <p:nvPr/>
            </p:nvSpPr>
            <p:spPr>
              <a:xfrm>
                <a:off x="7931520" y="4712760"/>
                <a:ext cx="27000" cy="109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6872760" y="4824000"/>
                <a:ext cx="1072080" cy="101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0"/>
              <p:cNvSpPr/>
              <p:nvPr/>
            </p:nvSpPr>
            <p:spPr>
              <a:xfrm rot="3253200">
                <a:off x="6842160" y="41994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61"/>
              <p:cNvSpPr/>
              <p:nvPr/>
            </p:nvSpPr>
            <p:spPr>
              <a:xfrm rot="3253200">
                <a:off x="6608520" y="4296240"/>
                <a:ext cx="51408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2"/>
            <p:cNvSpPr/>
            <p:nvPr/>
          </p:nvSpPr>
          <p:spPr>
            <a:xfrm rot="21236400">
              <a:off x="7424640" y="4995720"/>
              <a:ext cx="3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63"/>
            <p:cNvGrpSpPr/>
            <p:nvPr/>
          </p:nvGrpSpPr>
          <p:grpSpPr>
            <a:xfrm>
              <a:off x="6152760" y="4515480"/>
              <a:ext cx="1774440" cy="1407240"/>
              <a:chOff x="6152760" y="4515480"/>
              <a:chExt cx="1774440" cy="1407240"/>
            </a:xfrm>
          </p:grpSpPr>
          <p:sp>
            <p:nvSpPr>
              <p:cNvPr id="135" name="Line 64"/>
              <p:cNvSpPr/>
              <p:nvPr/>
            </p:nvSpPr>
            <p:spPr>
              <a:xfrm flipH="1" flipV="1">
                <a:off x="6669000" y="5798880"/>
                <a:ext cx="125820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 flipH="1" flipV="1">
                <a:off x="6453360" y="4515480"/>
                <a:ext cx="1473480" cy="140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4124000">
                <a:off x="6197400" y="5378760"/>
                <a:ext cx="63468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67"/>
              <p:cNvSpPr/>
              <p:nvPr/>
            </p:nvSpPr>
            <p:spPr>
              <a:xfrm rot="14124000">
                <a:off x="6195960" y="4667400"/>
                <a:ext cx="51372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68"/>
            <p:cNvSpPr/>
            <p:nvPr/>
          </p:nvSpPr>
          <p:spPr>
            <a:xfrm rot="75000">
              <a:off x="7113600" y="5204520"/>
              <a:ext cx="428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Box 59"/>
          <p:cNvSpPr/>
          <p:nvPr/>
        </p:nvSpPr>
        <p:spPr>
          <a:xfrm>
            <a:off x="432360" y="542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1789200" y="307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1"/>
          <p:cNvSpPr/>
          <p:nvPr/>
        </p:nvSpPr>
        <p:spPr>
          <a:xfrm>
            <a:off x="3290040" y="585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3718440" y="5214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3"/>
          <p:cNvSpPr/>
          <p:nvPr/>
        </p:nvSpPr>
        <p:spPr>
          <a:xfrm>
            <a:off x="4932720" y="2928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579024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5"/>
          <p:cNvSpPr/>
          <p:nvPr/>
        </p:nvSpPr>
        <p:spPr>
          <a:xfrm>
            <a:off x="7362000" y="47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6"/>
          <p:cNvSpPr/>
          <p:nvPr/>
        </p:nvSpPr>
        <p:spPr>
          <a:xfrm>
            <a:off x="6933240" y="528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уга 67"/>
          <p:cNvSpPr/>
          <p:nvPr/>
        </p:nvSpPr>
        <p:spPr>
          <a:xfrm>
            <a:off x="785880" y="5000760"/>
            <a:ext cx="357120" cy="6429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Дуга 68"/>
          <p:cNvSpPr/>
          <p:nvPr/>
        </p:nvSpPr>
        <p:spPr>
          <a:xfrm>
            <a:off x="3786120" y="4714920"/>
            <a:ext cx="500040" cy="571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Дуга 69"/>
          <p:cNvSpPr/>
          <p:nvPr/>
        </p:nvSpPr>
        <p:spPr>
          <a:xfrm rot="14293800">
            <a:off x="7358040" y="5572080"/>
            <a:ext cx="285840" cy="2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Дуга 70"/>
          <p:cNvSpPr/>
          <p:nvPr/>
        </p:nvSpPr>
        <p:spPr>
          <a:xfrm rot="11293200">
            <a:off x="1645920" y="4083120"/>
            <a:ext cx="730080" cy="2239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1"/>
          <p:cNvSpPr/>
          <p:nvPr/>
        </p:nvSpPr>
        <p:spPr>
          <a:xfrm rot="10046400">
            <a:off x="4790880" y="3668760"/>
            <a:ext cx="1062000" cy="1634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уга 72"/>
          <p:cNvSpPr/>
          <p:nvPr/>
        </p:nvSpPr>
        <p:spPr>
          <a:xfrm>
            <a:off x="7929720" y="5500800"/>
            <a:ext cx="357120" cy="3571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уга 73"/>
          <p:cNvSpPr/>
          <p:nvPr/>
        </p:nvSpPr>
        <p:spPr>
          <a:xfrm rot="14017200">
            <a:off x="2856960" y="5286240"/>
            <a:ext cx="285840" cy="42876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уга 74"/>
          <p:cNvSpPr/>
          <p:nvPr/>
        </p:nvSpPr>
        <p:spPr>
          <a:xfrm rot="12929400">
            <a:off x="5635440" y="4137120"/>
            <a:ext cx="226800" cy="7826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уга 75"/>
          <p:cNvSpPr/>
          <p:nvPr/>
        </p:nvSpPr>
        <p:spPr>
          <a:xfrm rot="18340800">
            <a:off x="7418880" y="5215680"/>
            <a:ext cx="374760" cy="27144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ными способами, рассматривая разные треугольники, получили, что сумма углов треугольника равна 180</a:t>
            </a:r>
            <a:r>
              <a:rPr b="1" lang="ru-RU" sz="4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5018040" y="128592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ol3</dc:creator>
  <dc:description/>
  <dc:language>en-US</dc:language>
  <cp:lastModifiedBy>uchitelskaya</cp:lastModifiedBy>
  <dcterms:modified xsi:type="dcterms:W3CDTF">2017-02-02T06:20:45Z</dcterms:modified>
  <cp:revision>123</cp:revision>
  <dc:subject/>
  <dc:title>PowerPoint Presentation</dc:title>
</cp:coreProperties>
</file>